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ED0-3D4C-4AC2-857F-0DCCCDDA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F77-DA4E-49CB-B988-06929F99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0F2-4E58-48FD-B714-BCFD6E05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EC2-AA79-4C77-99D0-45E60D8A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260-F13B-47DD-B732-16F18B9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D56-927F-47DF-9A0F-5E9E1C66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5B9-1F52-47BA-B5D2-9CC12F0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C91-C385-4E3A-935F-C6C4EE1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E25-463A-4F59-8497-55610ED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876-7F71-4DE9-983A-CD47446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4D1-2DF2-4EC6-A706-BF89F42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E59-24E8-4527-A27C-59709E48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A47-434D-43FA-8807-290AE7F31FE4}" type="slidenum">
              <a:rPr b="0" lang="en-US" sz="14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71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The American Dream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38F-A311-4641-99D1-7322AA91BD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Assumption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6600" y="194148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87320" y="3975120"/>
            <a:ext cx="7570800" cy="111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35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is funded by green card applicants only (true!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USCIS processes all applications received whether the quota has been reached or not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If the quota is reached, applications are set aside until the new fiscal year starts and quotas are set back to 0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368960"/>
            <a:ext cx="112680" cy="672840"/>
          </a:xfrm>
          <a:custGeom>
            <a:avLst/>
            <a:gdLst>
              <a:gd name="textAreaLeft" fmla="*/ 0 w 112680"/>
              <a:gd name="textAreaRight" fmla="*/ 40680 w 112680"/>
              <a:gd name="textAreaTop" fmla="*/ 17280 h 672840"/>
              <a:gd name="textAreaBottom" fmla="*/ 65556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4521240"/>
            <a:ext cx="22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From USCIS and D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533-C95F-4C6F-B036-95742E37F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ecision Variables and Objective Function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8640" y="1450800"/>
            <a:ext cx="8226720" cy="2552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52560" y="5346720"/>
            <a:ext cx="7213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umber of requests at each stage reflects gate proces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ptimize for number of employees and processed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55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ssumes USCIS can hire contractors for each given month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8640" y="4040280"/>
            <a:ext cx="8226720" cy="12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4F4-F23E-4E64-8B75-777672A3F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1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8640" y="2249640"/>
            <a:ext cx="8226720" cy="23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122-0675-4062-9C60-58E1A6DFD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ur Optimization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onstraints (2/2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ree sets of constraint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work hours available ≥ Number of work need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umber of applications requested ≤ Number of applications processed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No backlog of applications at either one of the 4 stag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8640" y="1674720"/>
            <a:ext cx="822672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C8D-780B-412E-8C08-D537F0730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backlog can be eliminated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requires up to 10,000 workers in some agencies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mpact on cost and profit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8640" y="1809720"/>
            <a:ext cx="8226720" cy="16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E68-C81A-495F-8053-D165204ED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130360"/>
            <a:ext cx="82296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optimum allocation of workers and applications sets the annual cost to $290,333,331 up from $91,500,000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ut it increases operating profit from 66% currently to 75%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8640" y="1855800"/>
            <a:ext cx="8226720" cy="128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640" y="3417840"/>
            <a:ext cx="8226720" cy="12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6BE-ABCB-44F1-BF6B-964C09171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c0c0c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D8F-C974-4663-92D6-38F26F1823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harlotte IT Consulting Group Solution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cuts processing times by 2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much money will the agencies save with each program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lement a system that reduces security clearance variability significantl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How will it affect the backlog of green card applications?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89D-5783-4E99-BDD7-C47A685413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041440"/>
            <a:ext cx="82296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reduction of processing time doubles the number of applications processed every month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4800" y="3429000"/>
            <a:ext cx="8472600" cy="127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4800" y="1698480"/>
            <a:ext cx="8472600" cy="1274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5000" y="1430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560" y="31510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D1E-FE5F-430D-BB0D-A474D880F6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Processing Times by 50%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70800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new IT system increases USCIS operating profit by over 50% through labor cost reduc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85880" y="1812960"/>
            <a:ext cx="577044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CEA-BA14-4F73-82E4-5D1CA49C57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is is the story of 4 foreign Sternies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braj Ghosh (India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lon Harris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mir Kaspi (Israel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harlotte Porteneuve (France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ho worked really hard toward the American Dream: They got into Stern and now have received job offers from prestigious firms but are unsure they can legally work in the glorious country of U.S. of A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B0A-0019-47B3-BD6F-206E7910E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variability in security clearance processing generates a backlog of green card application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09600" y="1741320"/>
            <a:ext cx="6724800" cy="24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52D-D0BA-43EA-B55D-3BB10BA2F7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1960" y="455904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BI’s processing of security clearance: distribution due to each person’s unique security background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kewed distribution of clearances with a peak at 13,000/month and a scale of 1,0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harlotte IT Consulting Firm can reduce this scale down to 700, i.e. reduce the variability of processing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6000" y="1544760"/>
            <a:ext cx="4113000" cy="2759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1544760"/>
            <a:ext cx="4113000" cy="27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A0A-BAD5-47C9-B819-7F499BD4E5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Propos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duce Security Clearance Variability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1040" y="4635000"/>
            <a:ext cx="8521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ffect of system improvement on green card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out system: 33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631440" indent="-24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With system: 10% probability of backlog &gt; 30,000 applications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acklog of over 30,000 results in costly class-action lawsuits for USCIS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200" y="1562040"/>
            <a:ext cx="41133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4760" y="1562040"/>
            <a:ext cx="4113000" cy="29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C3D-A76B-45BD-805F-56132198CD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8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Four Foreign Sternies can improve the green card processing efficiency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reallocating resources to eliminate 2007’s backlog in green card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y hiring the services of Charlotte IT Consulting Group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crease the USCIS profit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ecrease the likelihood of costly backlog of over 30,000 applications by over 50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y following our advice the immigration services will be successful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432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59680" y="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16D-BEB2-4F56-B0B6-3B9CC969E2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What are their options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H1-B work visa, but…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Supply cut dramatically after 9/11, does not meet deman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nly valid for 6 year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llegal immigration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ust kidd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egal immigration = the GREEN CARD!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1.3 Million new legal immigrants in 2006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957-BE24-4971-8883-CC449A6B9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125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05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286000" y="685800"/>
            <a:ext cx="45705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me Facts about U.S. Immigrat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898800" y="650232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ata from U.S. Citizenship and Immigration Services (USC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C9C-85E4-4679-94BC-D7BA9F9A3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Problems with Employer-Sponsored Green Card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Uncertain duration: from 6 months to 10 years…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nterim status locks immigration candidate into one job position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ltiple agencies involve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Large and growing backlog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he USCIS received over 2.5 million applications during July and August, including 300,000 employment-based adjustment applications. "It could take years to process all of the applications and issue all the visas," Michael Aytes, USCIS's Associate Director for Domestic Operations, told reporters.” – November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Monotype Corsiv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, 200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E6C-8704-449E-ABF5-A6515C096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007: Explosive Demand for Green Cards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92280" y="1469880"/>
            <a:ext cx="77594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52E-2EEB-4A46-9865-2E95F70F7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uckily, Our Fellow Sternies Have Taken Juran’s Decision Models!!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1D9-2E02-4077-8CD6-E0E0CF7647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mprove the duration and variability of the employer-sponsored green card process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Optimize allocation of resources at involved U.S. agencies to eliminate the green card backlog while minimizing cost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ssess the impact of Charlotte IT Consulting Group’s proposals to improve the process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29120" y="4789440"/>
            <a:ext cx="2884320" cy="15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C62-319B-4C95-A93B-7B17E0C56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e Green Card Process, in Theory…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040" y="4680000"/>
            <a:ext cx="7781760" cy="105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1680" y="294336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3067200"/>
            <a:ext cx="8380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317196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6"/>
            <a:endCxn id="66" idx="1"/>
          </p:cNvCxnSpPr>
          <p:nvPr/>
        </p:nvCxnSpPr>
        <p:spPr>
          <a:xfrm>
            <a:off x="3149640" y="3362040"/>
            <a:ext cx="17913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1866960" y="2967120"/>
            <a:ext cx="495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0280" y="3287880"/>
            <a:ext cx="8380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0720" y="2443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2"/>
          </p:cNvCxnSpPr>
          <p:nvPr/>
        </p:nvCxnSpPr>
        <p:spPr>
          <a:xfrm flipV="1">
            <a:off x="4572000" y="2633400"/>
            <a:ext cx="55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987720" y="2239920"/>
            <a:ext cx="58428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8" idx="6"/>
            <a:endCxn id="72" idx="1"/>
          </p:cNvCxnSpPr>
          <p:nvPr/>
        </p:nvCxnSpPr>
        <p:spPr>
          <a:xfrm>
            <a:off x="5511600" y="2633760"/>
            <a:ext cx="705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6216480" y="2239920"/>
            <a:ext cx="4701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2" idx="3"/>
            <a:endCxn id="63" idx="2"/>
          </p:cNvCxnSpPr>
          <p:nvPr/>
        </p:nvCxnSpPr>
        <p:spPr>
          <a:xfrm>
            <a:off x="6686640" y="2635200"/>
            <a:ext cx="70524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2" idx="6"/>
            <a:endCxn id="67" idx="1"/>
          </p:cNvCxnSpPr>
          <p:nvPr/>
        </p:nvCxnSpPr>
        <p:spPr>
          <a:xfrm>
            <a:off x="1409760" y="3362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4" idx="2"/>
          </p:cNvCxnSpPr>
          <p:nvPr/>
        </p:nvCxnSpPr>
        <p:spPr>
          <a:xfrm>
            <a:off x="2361960" y="3362040"/>
            <a:ext cx="40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6" idx="3"/>
            <a:endCxn id="63" idx="2"/>
          </p:cNvCxnSpPr>
          <p:nvPr/>
        </p:nvCxnSpPr>
        <p:spPr>
          <a:xfrm flipV="1">
            <a:off x="5778000" y="3485520"/>
            <a:ext cx="161388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70" idx="1"/>
          </p:cNvCxnSpPr>
          <p:nvPr/>
        </p:nvCxnSpPr>
        <p:spPr>
          <a:xfrm flipV="1">
            <a:off x="3149640" y="2635200"/>
            <a:ext cx="83880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8AE-7BCB-41A0-9621-A444684851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4:36:01Z</dcterms:created>
  <dc:creator>Charlotte Porteneuve</dc:creator>
  <dc:description/>
  <dc:language>en-US</dc:language>
  <cp:lastModifiedBy>Charlotte Porteneuve</cp:lastModifiedBy>
  <dcterms:modified xsi:type="dcterms:W3CDTF">2007-11-26T18:30:37Z</dcterms:modified>
  <cp:revision>115</cp:revision>
  <dc:subject/>
  <dc:title>The American Dream</dc:title>
</cp:coreProperties>
</file>